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38.jpeg" ContentType="image/jpeg"/>
  <Override PartName="/ppt/media/image34.png" ContentType="image/png"/>
  <Override PartName="/ppt/media/image8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18.png" ContentType="image/png"/>
  <Override PartName="/ppt/media/image6.jpeg" ContentType="image/jpe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.png" ContentType="image/png"/>
  <Override PartName="/ppt/media/image11.png" ContentType="image/png"/>
  <Override PartName="/ppt/media/image9.jpeg" ContentType="image/jpeg"/>
  <Override PartName="/ppt/media/image14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35E1-089D-4761-B2D9-2D703C2B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2434-F7F3-465B-BE1E-CD0808F8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DFEFA-B310-41E0-B679-202320B7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C471A-DC91-4E17-822D-C9C4C49F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4B259-5A1F-462D-8BEE-4D0153C5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080C6-1BC3-4239-A67E-83B0CD11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53976-84DD-46D3-A8A7-3DCEBA5B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4DF5C-AD29-4BC7-8919-86D92097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E2E0B-637A-4D6F-BE5C-6ED81590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43F00-D56A-4476-B857-928DEEEF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89257-0DB8-4595-A909-792B59F1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5A24-8961-4F7C-8BDF-77C4E7A7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6FF-311D-4B0D-9D94-1979A3B65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91AF-0806-4853-BBFA-F9E65894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6977-A3CC-4A71-A311-938FFB63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9646F-4861-4561-9AA3-CAA68F72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FAAA-A6F5-49A2-9706-32864AE1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3A24-28C2-4D91-83C6-FC98B231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152B-FC39-4B39-99DA-E10774ED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5633-1DC4-42FA-A103-27746385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CC9-EA25-4934-B0C8-A3EA37B1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C949-3EFA-4EEC-9AC3-1DC63338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0917-4162-4599-80F0-0EED3A21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F2DD-684C-46BE-A298-A042B608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651E-4CD1-436F-80F8-5FDC9E434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A6D2-6989-4898-9889-D8C4C5451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007EA-C57C-4B8F-9862-875AB4364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A0774-8001-487A-9CCE-063836F0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93262-2360-4EBA-A7AF-A679C724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491CB-785A-4648-A94A-4B061018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DCD86-861E-40DF-B78F-523765C5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A62-3180-4627-A231-A82E0221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E4627-69F1-4CE7-BDCE-94119FC5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3E548-44C2-45B5-90D9-8D223D41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BEEE-E311-4DE7-846B-C2C9B45C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024D-E954-4E14-A2C5-CF1B1130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E905B-EFC2-40F6-8936-0A887D2E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DD4C8-5B0B-4182-9E09-06DCC6B7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FD0FE-22A0-4803-BDAB-6DBF301D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DB332-9978-4FB8-8C7D-DC5A0E665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751EC-A697-4838-9B73-C5EB0D83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BAAB8-F879-43FB-A380-9669C84B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5B7-2758-4905-9A73-52FC3909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3C565-DC01-4413-AD30-23732074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AEA53-6ABC-43A2-B2EF-E0806DEB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B0153-65D3-449A-80E9-B05A0247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5E408-6CFB-4B88-936F-BB7BFA99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B4BD1-B6B4-4296-9BB5-52A03D88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A9EA7-DF9C-4EF4-A93F-3685F367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D53BD-DDD9-4B66-8A46-A46B246C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AF33F-2FC0-4D2D-B6B3-8DFC9569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A2050-B42A-45D7-B216-4C19C938C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6EA21-E561-4DAC-A342-A0A1A369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8B6-5354-4DEC-9EE8-339E58F2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E793C-60B2-483D-BD94-A42FD790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7313B-7826-496E-B969-0D970991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C42C0-0D99-41AF-A4FA-511F2350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1C62A-B3D2-4370-BE96-78E3DC2E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A8A87-33D7-47DC-A485-FB2E6B48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28AFB-445D-45CF-AE4C-C5C4067B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DF692-2578-4BEA-AFE6-0B8550A4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73AFB-081C-4C35-95B9-E06F8C08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0C0B6-D672-4873-A2BA-20ED28D2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594C6-22AD-4B0A-92CA-E33ABE7F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43E-DAF4-46A3-ABE1-DFB466D8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3A245-DE58-4C4D-8649-2B820CAA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97D3D-AC80-454F-B5AE-E87C0F1B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57021-D5C5-4BEE-9ABF-2D1130D3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D38AB-33F5-4944-91F0-6BF1D73E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5A9C6-CFC7-406C-8BB5-8DFD50B5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46C9C-A967-4718-B5C4-1140DF1F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31888-DAF9-4162-85BF-C7291552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11694-D88B-4AF4-AF2E-27700818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D8B67-20D4-45C6-8FF7-104B4FC6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1AE87-ACA6-45CC-875E-34023004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015-9CF6-472C-B046-D2A76579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63487-7D8C-443C-A946-D57D23E1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8AAC6-5714-4790-86AC-C5C548AC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903E1-A707-4C52-8894-C1752CA1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FF640-2A03-458C-B940-D8FF6CF4E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ADA0C-269F-47B7-9BDA-05C5962A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8C332-AFB4-406A-8C55-5C000D61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93406-6DDD-4673-8E31-4D8E086B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CDAE2-0759-4EE0-BC96-D3B7C484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97A4B-5216-42E9-8099-C66BDEBE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BE16B-BDC1-4CE6-99F3-88354231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D12-1CC6-45BC-A590-7E305717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6C3D5-2C3B-4429-B67E-F572118A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932E7-036D-4042-B499-04A4713F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A7A6A-8415-4177-BAE7-DA49221D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0FCC6-55B0-48DB-8718-D78929AE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B12E8-0A25-4CBB-A769-70935C25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2099A-C745-4400-9ED4-8E428C02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D0696-A436-439E-A464-FE7DE188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815A4-3169-4E0F-86A0-7756B020C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3BA67-5530-4EC3-A5F8-E441AEFE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2B742-9188-4979-9B41-92B28F66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0449-FE3A-4581-BB51-095F7E7E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1BA0F-2FFC-4386-87EC-9A6EBF25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CE990-6BE2-4EC9-B176-D3683059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4DE60-B3F0-4FAE-B4C1-F45EC049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B2ECB-7CDC-4690-B551-E06696FC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34434-0896-47C2-B768-49186854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7771F-C397-43AF-931B-54808535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71A6D-8046-4994-95B9-585D5B64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2D83A-793B-4F4A-83AE-2FDFB94E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752B5-0C95-4421-84C8-AE433AAA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48333-E2C5-4D9C-B7FD-C4243842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A8AD-9D83-483B-8006-E1B636A0EB1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Straight Connector 14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3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C941-6086-4A41-8E20-8EE739BFBD8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5712-7206-4299-AA66-1A855D81FF5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Straight Connector 14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9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0A77-CCC4-4527-BF6F-10AF0D9BDAC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Straight Connector 14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93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CE0B-43F3-44F5-8B44-90776696B5E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D905-37E8-4C94-88C7-4B22B3D3FA7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Straight Connector 14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8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FD9C-5AD4-4D4A-B422-36CC3710C07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38B9-06BF-4326-A104-977599C879B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DC8E-0E5B-40FE-8DA5-071134BCBBE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PTER 6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INTRODUCTION TO SQ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1498680" y="6245280"/>
            <a:ext cx="645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8e27"/>
                </a:solidFill>
                <a:latin typeface="Tahoma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F6CA-EFAD-407D-BC18-05C8BB95DFA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990720" y="33523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Modern Database Manageme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11</a:t>
            </a:r>
            <a:r>
              <a:rPr b="1" i="1" lang="en-US" sz="2200" spc="-1" strike="noStrike" baseline="30000">
                <a:solidFill>
                  <a:srgbClr val="0070c0"/>
                </a:solidFill>
                <a:latin typeface="Franklin Gothic Book"/>
                <a:ea typeface="Times New Roman"/>
              </a:rPr>
              <a:t>th</a:t>
            </a: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 Edi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Franklin Gothic Book"/>
                <a:ea typeface="Times New Roman"/>
              </a:rPr>
              <a:t>Jeffrey A. Hoffer,  V. Ramesh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Franklin Gothic Book"/>
                <a:ea typeface="Times New Roman"/>
              </a:rPr>
              <a:t>Heikki Topi</a:t>
            </a:r>
            <a:r>
              <a:rPr b="0" lang="en-US" sz="22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2295-B050-4001-8115-2DDEB933687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881280" y="152280"/>
            <a:ext cx="788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6-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L, DML, DCL, and the database development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Picture 4" descr="Noname.jpg"/>
          <p:cNvPicPr/>
          <p:nvPr/>
        </p:nvPicPr>
        <p:blipFill>
          <a:blip r:embed="rId2"/>
          <a:stretch/>
        </p:blipFill>
        <p:spPr>
          <a:xfrm>
            <a:off x="1058760" y="1033560"/>
            <a:ext cx="7183440" cy="5229000"/>
          </a:xfrm>
          <a:prstGeom prst="rect">
            <a:avLst/>
          </a:prstGeom>
          <a:ln w="0">
            <a:noFill/>
          </a:ln>
        </p:spPr>
      </p:pic>
      <p:sp>
        <p:nvSpPr>
          <p:cNvPr id="437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8F4F-4A06-4BAB-98BB-BAAC63A3945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QL DATABASE DEFINI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06440" y="1179000"/>
            <a:ext cx="85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 Definition Language (DDL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jor CREATE statement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E SCHEMA–defines a portion of the database owned by a particular use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E TABLE–defines a new table and its colum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E VIEW–defines a logical table from one or more tables or view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ther CREATE statements: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HARACTER SET, COLLATION, TRANSLATION, ASSERTION, DOMAI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75D9-C3D6-439D-8FD4-C7BF4E8B0EE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50400" y="391680"/>
            <a:ext cx="6900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TEPS IN TABLE CRE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A9F9-6305-4509-BCF7-C4B11D8A362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276120" y="1270080"/>
            <a:ext cx="886788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Identify data types for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Identify columns that can and cannot be n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Identify columns that must be unique (candidate ke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Identify primary key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foreign key m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Determine default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Identify constraints on columns (domain specific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Create the table and associated inde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1A55-BB43-41A6-A7CB-32E1E9F3E29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1251000" y="246240"/>
            <a:ext cx="72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-5 General syntax for CREATE TABLE statement used in data definition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8" name="Picture 6" descr="Noname.jpg"/>
          <p:cNvPicPr/>
          <p:nvPr/>
        </p:nvPicPr>
        <p:blipFill>
          <a:blip r:embed="rId2"/>
          <a:stretch/>
        </p:blipFill>
        <p:spPr>
          <a:xfrm>
            <a:off x="1071720" y="1214280"/>
            <a:ext cx="64180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6" descr="Noname.jpg"/>
          <p:cNvPicPr/>
          <p:nvPr/>
        </p:nvPicPr>
        <p:blipFill>
          <a:blip r:embed="rId2"/>
          <a:stretch/>
        </p:blipFill>
        <p:spPr>
          <a:xfrm>
            <a:off x="630360" y="1592280"/>
            <a:ext cx="8121600" cy="462744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THE FOLLOWING SLIDES CREATE TABLES FOR THIS ENTERPRISE DATA MOD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1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DEE9-0E0B-430B-B3F5-6AEAD593409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TextBox 5"/>
          <p:cNvSpPr/>
          <p:nvPr/>
        </p:nvSpPr>
        <p:spPr>
          <a:xfrm>
            <a:off x="3311640" y="354168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(from Chapter 1, Figure 1-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9" descr="Noname.gif"/>
          <p:cNvPicPr/>
          <p:nvPr/>
        </p:nvPicPr>
        <p:blipFill>
          <a:blip r:embed="rId2"/>
          <a:stretch/>
        </p:blipFill>
        <p:spPr>
          <a:xfrm>
            <a:off x="639720" y="668160"/>
            <a:ext cx="7531200" cy="5704200"/>
          </a:xfrm>
          <a:prstGeom prst="rect">
            <a:avLst/>
          </a:prstGeom>
          <a:ln w="0">
            <a:noFill/>
          </a:ln>
        </p:spPr>
      </p:pic>
      <p:sp>
        <p:nvSpPr>
          <p:cNvPr id="45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2C5A-606A-4BFB-8F84-150AFB885F1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318960" y="15840"/>
            <a:ext cx="869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gure 6-6 SQL database definition commands for Pine Valley Furniture Company (Oracle 11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6324480" y="10666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Overall table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Rectangle 10"/>
          <p:cNvSpPr/>
          <p:nvPr/>
        </p:nvSpPr>
        <p:spPr>
          <a:xfrm>
            <a:off x="668160" y="682560"/>
            <a:ext cx="5224680" cy="1494000"/>
          </a:xfrm>
          <a:prstGeom prst="rect">
            <a:avLst/>
          </a:prstGeom>
          <a:noFill/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11"/>
          <p:cNvSpPr/>
          <p:nvPr/>
        </p:nvSpPr>
        <p:spPr>
          <a:xfrm>
            <a:off x="646200" y="2184480"/>
            <a:ext cx="5275080" cy="1139760"/>
          </a:xfrm>
          <a:prstGeom prst="rect">
            <a:avLst/>
          </a:prstGeom>
          <a:noFill/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660240" y="3344760"/>
            <a:ext cx="5275440" cy="1633680"/>
          </a:xfrm>
          <a:prstGeom prst="rect">
            <a:avLst/>
          </a:prstGeom>
          <a:noFill/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Rectangle 13"/>
          <p:cNvSpPr/>
          <p:nvPr/>
        </p:nvSpPr>
        <p:spPr>
          <a:xfrm>
            <a:off x="674640" y="5000760"/>
            <a:ext cx="5246640" cy="1341360"/>
          </a:xfrm>
          <a:prstGeom prst="rect">
            <a:avLst/>
          </a:prstGeom>
          <a:noFill/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6" descr="Noname.gif"/>
          <p:cNvPicPr/>
          <p:nvPr/>
        </p:nvPicPr>
        <p:blipFill>
          <a:blip r:embed="rId2"/>
          <a:stretch/>
        </p:blipFill>
        <p:spPr>
          <a:xfrm>
            <a:off x="592200" y="1139760"/>
            <a:ext cx="7610400" cy="4564080"/>
          </a:xfrm>
          <a:prstGeom prst="rect">
            <a:avLst/>
          </a:prstGeom>
          <a:ln w="0">
            <a:noFill/>
          </a:ln>
        </p:spPr>
      </p:pic>
      <p:sp>
        <p:nvSpPr>
          <p:cNvPr id="462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DC79-29C3-455B-8D3E-135937EE74D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990720" y="1969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Defining attributes and their data typ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2062080" y="1654200"/>
            <a:ext cx="4338720" cy="1436760"/>
          </a:xfrm>
          <a:prstGeom prst="rect">
            <a:avLst/>
          </a:prstGeom>
          <a:noFill/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10"/>
          <p:cNvSpPr/>
          <p:nvPr/>
        </p:nvSpPr>
        <p:spPr>
          <a:xfrm>
            <a:off x="2068560" y="4070520"/>
            <a:ext cx="4317840" cy="1009440"/>
          </a:xfrm>
          <a:prstGeom prst="rect">
            <a:avLst/>
          </a:prstGeom>
          <a:noFill/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2C23-C144-4701-B4CA-1BC3D80A7A3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8" descr="Noname.gif"/>
          <p:cNvPicPr/>
          <p:nvPr/>
        </p:nvPicPr>
        <p:blipFill>
          <a:blip r:embed="rId2"/>
          <a:stretch/>
        </p:blipFill>
        <p:spPr>
          <a:xfrm>
            <a:off x="592200" y="1139760"/>
            <a:ext cx="7610400" cy="4564080"/>
          </a:xfrm>
          <a:prstGeom prst="rect">
            <a:avLst/>
          </a:prstGeom>
          <a:ln w="0">
            <a:noFill/>
          </a:ln>
        </p:spPr>
      </p:pic>
      <p:sp>
        <p:nvSpPr>
          <p:cNvPr id="470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2DF0-CB2E-40C6-8723-F2CAAF6ED6F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3200400" y="484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Non-nullable specifi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6629400" y="1720800"/>
            <a:ext cx="1143000" cy="3808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846440" y="56404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Identifying primary ke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"/>
          <p:cNvSpPr/>
          <p:nvPr/>
        </p:nvSpPr>
        <p:spPr>
          <a:xfrm>
            <a:off x="601560" y="5095800"/>
            <a:ext cx="5257800" cy="45720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6189840" y="44514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imary keys can never have NULL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C6BF-8F9C-41B2-B224-D62440258EF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8" descr="Noname.gif"/>
          <p:cNvPicPr/>
          <p:nvPr/>
        </p:nvPicPr>
        <p:blipFill>
          <a:blip r:embed="rId2"/>
          <a:stretch/>
        </p:blipFill>
        <p:spPr>
          <a:xfrm>
            <a:off x="216000" y="1316160"/>
            <a:ext cx="8651880" cy="3111480"/>
          </a:xfrm>
          <a:prstGeom prst="rect">
            <a:avLst/>
          </a:prstGeom>
          <a:ln w="0">
            <a:noFill/>
          </a:ln>
        </p:spPr>
      </p:pic>
      <p:sp>
        <p:nvSpPr>
          <p:cNvPr id="480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1CA4-4EC2-44E5-BCC1-61EFB3C7CE3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4724280" y="8017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Non-nullable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7707240" y="1741320"/>
            <a:ext cx="1143000" cy="91440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272880" y="3075120"/>
            <a:ext cx="5983560" cy="36972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6539040" y="297504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Primary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1371600" y="449568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ome primary keys are composite– composed of multiple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7604-35C0-41CC-BCD2-62191FFF6B5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8" descr="Noname.gif"/>
          <p:cNvPicPr/>
          <p:nvPr/>
        </p:nvPicPr>
        <p:blipFill>
          <a:blip r:embed="rId2"/>
          <a:stretch/>
        </p:blipFill>
        <p:spPr>
          <a:xfrm>
            <a:off x="457200" y="1182600"/>
            <a:ext cx="8191440" cy="4346640"/>
          </a:xfrm>
          <a:prstGeom prst="rect">
            <a:avLst/>
          </a:prstGeom>
          <a:ln w="0">
            <a:noFill/>
          </a:ln>
        </p:spPr>
      </p:pic>
      <p:sp>
        <p:nvSpPr>
          <p:cNvPr id="490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13D3-5A08-419F-AEA6-392A592D25C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3606840" y="4129200"/>
            <a:ext cx="5105520" cy="53820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5342040" y="1724040"/>
            <a:ext cx="2147760" cy="36972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6796080" y="19954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Default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900000" y="41432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Domain constra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1143000" y="2728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ontrolling the values in attribut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E145-E88B-4F2E-8D29-6FDCC9ED1CA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58720" y="329760"/>
            <a:ext cx="8229600" cy="8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4120" y="136800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fine term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terpret history and role of SQL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fine a database using SQL data definition languag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rite single table queries using SQ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stablish referential integrity using SQ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iscuss SQL:1999 and SQL:2008 standar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A263-8C9D-4CAE-B9FD-D8573EAD1B4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9" descr="Noname.gif"/>
          <p:cNvPicPr/>
          <p:nvPr/>
        </p:nvPicPr>
        <p:blipFill>
          <a:blip r:embed="rId2"/>
          <a:stretch/>
        </p:blipFill>
        <p:spPr>
          <a:xfrm>
            <a:off x="258840" y="812880"/>
            <a:ext cx="8696160" cy="5051520"/>
          </a:xfrm>
          <a:prstGeom prst="rect">
            <a:avLst/>
          </a:prstGeom>
          <a:ln w="0">
            <a:noFill/>
          </a:ln>
        </p:spPr>
      </p:pic>
      <p:sp>
        <p:nvSpPr>
          <p:cNvPr id="500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E21B-1544-4223-8B64-330F6B6F151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228600" y="5376960"/>
            <a:ext cx="8610480" cy="3808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262080" y="224784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Primary key of  parent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0" y="1522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Times New Roman"/>
              </a:rPr>
              <a:t>Identifying foreign keys and establishing relationship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9"/>
          <p:cNvSpPr/>
          <p:nvPr/>
        </p:nvSpPr>
        <p:spPr>
          <a:xfrm>
            <a:off x="2144880" y="1189080"/>
            <a:ext cx="6723000" cy="36684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1916280" y="5713560"/>
            <a:ext cx="47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oreign key of  dependent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Rectangle 11"/>
          <p:cNvSpPr/>
          <p:nvPr/>
        </p:nvSpPr>
        <p:spPr>
          <a:xfrm>
            <a:off x="318960" y="3200400"/>
            <a:ext cx="5015160" cy="38088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C156-99CA-4A4B-B8AD-BB39303E6D5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INTEGRITY CONTROL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85800" y="1495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ferential integrity–constraint that ensures that foreign key values of a table must match primary key values of a related table in 1:M relationship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stricting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letes of primary recor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pdates of primary recor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76080" indent="-25992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nserts of dependent recor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0EE7-166C-4AAD-8524-DEEBE267CD1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9122-735E-43EC-97D0-52DDC74B0242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6767640" y="1908000"/>
            <a:ext cx="2133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Relational integrity is enforced via the primary-key to foreign-key m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Text Box 7"/>
          <p:cNvSpPr/>
          <p:nvPr/>
        </p:nvSpPr>
        <p:spPr>
          <a:xfrm>
            <a:off x="409320" y="152280"/>
            <a:ext cx="63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6-7 Ensuring data integrity through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Picture 5" descr="Noname.gif"/>
          <p:cNvPicPr/>
          <p:nvPr/>
        </p:nvPicPr>
        <p:blipFill>
          <a:blip r:embed="rId2"/>
          <a:stretch/>
        </p:blipFill>
        <p:spPr>
          <a:xfrm>
            <a:off x="720720" y="658800"/>
            <a:ext cx="5805360" cy="5510160"/>
          </a:xfrm>
          <a:prstGeom prst="rect">
            <a:avLst/>
          </a:prstGeom>
          <a:ln w="0">
            <a:noFill/>
          </a:ln>
        </p:spPr>
      </p:pic>
      <p:sp>
        <p:nvSpPr>
          <p:cNvPr id="517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E19B-DB8F-4CF1-AA9E-C15DA42BA49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HANGING TABLE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57200" y="119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LTER TABLE statement allows you to change column specification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02600" indent="-102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02600" indent="-102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able Action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02600" indent="-102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02600" indent="-102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02600" indent="-102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ample </a:t>
            </a: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(adding a new column with a default value)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102600" indent="-102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BB95-5B67-44A5-A9E6-20B6A473BF4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3" name="Picture 4" descr="Noname.gif"/>
          <p:cNvPicPr/>
          <p:nvPr/>
        </p:nvPicPr>
        <p:blipFill>
          <a:blip r:embed="rId2"/>
          <a:stretch/>
        </p:blipFill>
        <p:spPr>
          <a:xfrm>
            <a:off x="1577880" y="2286000"/>
            <a:ext cx="4759560" cy="6015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" descr="Noname.gif"/>
          <p:cNvPicPr/>
          <p:nvPr/>
        </p:nvPicPr>
        <p:blipFill>
          <a:blip r:embed="rId3"/>
          <a:stretch/>
        </p:blipFill>
        <p:spPr>
          <a:xfrm>
            <a:off x="3479760" y="3071880"/>
            <a:ext cx="5057640" cy="16016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Noname.gif"/>
          <p:cNvPicPr/>
          <p:nvPr/>
        </p:nvPicPr>
        <p:blipFill>
          <a:blip r:embed="rId4"/>
          <a:stretch/>
        </p:blipFill>
        <p:spPr>
          <a:xfrm>
            <a:off x="1217520" y="5214960"/>
            <a:ext cx="66675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0344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REMOVING TABLE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31840" y="132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DROP TABLE statement allows you to remove tables from your schema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ROP TABLE CUSTOMER_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ABF7-9523-4D2B-910B-6A8A2AC6F92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INSERT STATEMEN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0" y="12189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dds one or more rows to a tabl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serting into a tabl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serting a record that has some null attributes requires identifying the fields that actually get dat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serting from another tabl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ED72-3D46-4430-B853-3E1F94D67DC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2" name="Picture 4" descr="Noname.gif"/>
          <p:cNvPicPr/>
          <p:nvPr/>
        </p:nvPicPr>
        <p:blipFill>
          <a:blip r:embed="rId2"/>
          <a:stretch/>
        </p:blipFill>
        <p:spPr>
          <a:xfrm>
            <a:off x="519120" y="2195640"/>
            <a:ext cx="8317080" cy="9111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Noname.gif"/>
          <p:cNvPicPr/>
          <p:nvPr/>
        </p:nvPicPr>
        <p:blipFill>
          <a:blip r:embed="rId3"/>
          <a:stretch/>
        </p:blipFill>
        <p:spPr>
          <a:xfrm>
            <a:off x="1147680" y="3914640"/>
            <a:ext cx="6297840" cy="10353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Noname.gif"/>
          <p:cNvPicPr/>
          <p:nvPr/>
        </p:nvPicPr>
        <p:blipFill>
          <a:blip r:embed="rId4"/>
          <a:stretch/>
        </p:blipFill>
        <p:spPr>
          <a:xfrm>
            <a:off x="1562040" y="5303880"/>
            <a:ext cx="43592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7" descr="Noname.gif"/>
          <p:cNvPicPr/>
          <p:nvPr/>
        </p:nvPicPr>
        <p:blipFill>
          <a:blip r:embed="rId2"/>
          <a:stretch/>
        </p:blipFill>
        <p:spPr>
          <a:xfrm>
            <a:off x="1224000" y="1087560"/>
            <a:ext cx="6613560" cy="36226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4240" y="409680"/>
            <a:ext cx="8969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REATING TABLES WITH IDENTITY COLUMN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7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C3A2-44D8-4C72-A1CB-FECCD00C704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990720" y="4738680"/>
            <a:ext cx="739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erting into a table does not require explicit customer ID entry or field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Arial"/>
              </a:rPr>
              <a:t>INSERT INTO CUSTOMER_T VALUES ( ‘Contemporary Casuals’, ‘1355 S. Himes Blvd.’, ‘Gainesville’, ‘FL’, 3260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4381560" y="2130480"/>
            <a:ext cx="2968200" cy="36828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Introduced with SQL:200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7960" y="398520"/>
            <a:ext cx="76932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ELETE STATEMEN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moves rows from a tabl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elete certain row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Franklin Gothic Book"/>
              </a:rPr>
              <a:t>DELETE FROM CUSTOMER_T WHERE CUSTOMERSTATE = ‘HI’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elete all row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Franklin Gothic Book"/>
              </a:rPr>
              <a:t>DELETE FROM CUSTOMER_T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EF9B-A7CB-497B-A5DD-82828BD821E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5120" y="398520"/>
            <a:ext cx="72993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UPDATE STATEMENT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Modifies data in existing row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222D-11A2-4FDF-B62E-8D28B7B9810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6" name="Picture 4" descr="Noname.gif"/>
          <p:cNvPicPr/>
          <p:nvPr/>
        </p:nvPicPr>
        <p:blipFill>
          <a:blip r:embed="rId2"/>
          <a:stretch/>
        </p:blipFill>
        <p:spPr>
          <a:xfrm>
            <a:off x="1236600" y="2685960"/>
            <a:ext cx="64105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875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MERGE STATEMEN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8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0AE5-338D-49F7-A299-A714CC77972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822240" y="4986360"/>
            <a:ext cx="7559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Makes it easier to update a table…allows combination of Insert and Update in one stat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Useful for updating master tables with new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0" name="Group 7"/>
          <p:cNvGrpSpPr/>
          <p:nvPr/>
        </p:nvGrpSpPr>
        <p:grpSpPr>
          <a:xfrm>
            <a:off x="1081080" y="1233360"/>
            <a:ext cx="6916680" cy="3730680"/>
            <a:chOff x="1081080" y="1233360"/>
            <a:chExt cx="6916680" cy="3730680"/>
          </a:xfrm>
        </p:grpSpPr>
        <p:pic>
          <p:nvPicPr>
            <p:cNvPr id="551" name="Picture 5" descr="Noname.gif"/>
            <p:cNvPicPr/>
            <p:nvPr/>
          </p:nvPicPr>
          <p:blipFill>
            <a:blip r:embed="rId2"/>
            <a:stretch/>
          </p:blipFill>
          <p:spPr>
            <a:xfrm>
              <a:off x="1081080" y="1233360"/>
              <a:ext cx="6901200" cy="203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6" descr="Noname.gif"/>
            <p:cNvPicPr/>
            <p:nvPr/>
          </p:nvPicPr>
          <p:blipFill>
            <a:blip r:embed="rId3"/>
            <a:stretch/>
          </p:blipFill>
          <p:spPr>
            <a:xfrm>
              <a:off x="1081080" y="3255480"/>
              <a:ext cx="6916680" cy="170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4416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QL OVERVIEW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tructured Query Languag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standard for relational database management systems (RDBMS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DBMS: A database management system that manages data as a collection of tables in which all relationships are represented by common values in related tab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8F88-5F39-4508-A64E-A43ADFE26E6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96960" y="42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CHEMA DEFINI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20480" y="1236600"/>
            <a:ext cx="837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ntrol processing/storage efficiency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hoice of index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ile organizations for base tabl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ile organizations for index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ata clusterin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tatistics maintenanc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reating index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peed up random/sequential access to base table dat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Exampl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CREATE INDEX NAME_IDX ON CUSTOMER_T(CUSTOMERNAME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is makes an index for the CUSTOMERNAME field of the CUSTOMER_T tabl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F16B-FDDF-45F5-B2E0-C6646B22E4B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01720" y="391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ELECT STATEMEN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0" y="1154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ed for queries on single or multiple tab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lauses of the SELECT statement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anklin Gothic Book"/>
              </a:rPr>
              <a:t>SELECT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List the columns (and expressions) to be returned from the quer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anklin Gothic Book"/>
              </a:rPr>
              <a:t>FRO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ndicate the table(s) or view(s) from which data will be obtain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anklin Gothic Book"/>
              </a:rPr>
              <a:t>WHER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ndicate the conditions under which a row will be included in the result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anklin Gothic Book"/>
              </a:rPr>
              <a:t>GROUP B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ndicate categorization of results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anklin Gothic Book"/>
              </a:rPr>
              <a:t>HAVING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Indicate the conditions under which a category (group) will be includ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Franklin Gothic Book"/>
              </a:rPr>
              <a:t>ORDER BY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orts the result according to specified criteri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B4BA-5210-4BC4-A266-59CD4485C08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2FC8-BCD3-4BDC-8AAE-5B68A4C669F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318960" y="533520"/>
            <a:ext cx="2791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Figure 6-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ial"/>
              </a:rPr>
              <a:t>SQL statement processing order  (based on van der Lans, 2006 p.1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" name="Picture 4" descr="Noname.jpg"/>
          <p:cNvPicPr/>
          <p:nvPr/>
        </p:nvPicPr>
        <p:blipFill>
          <a:blip r:embed="rId2"/>
          <a:stretch/>
        </p:blipFill>
        <p:spPr>
          <a:xfrm>
            <a:off x="3645000" y="193680"/>
            <a:ext cx="4019400" cy="6162840"/>
          </a:xfrm>
          <a:prstGeom prst="rect">
            <a:avLst/>
          </a:prstGeom>
          <a:ln w="0">
            <a:noFill/>
          </a:ln>
        </p:spPr>
      </p:pic>
      <p:sp>
        <p:nvSpPr>
          <p:cNvPr id="562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53AA-0DA3-480E-923F-151989EBEF2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ELECT EXAMPLE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01520" y="1294920"/>
            <a:ext cx="8839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nd products with standard price less than $275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67CD-DA1D-48C2-8538-F5017D5E28C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460800" y="5410080"/>
            <a:ext cx="52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6-3: Comparison Operators in 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9" name="Picture 6" descr="Noname.gif"/>
          <p:cNvPicPr/>
          <p:nvPr/>
        </p:nvPicPr>
        <p:blipFill>
          <a:blip r:embed="rId2"/>
          <a:stretch/>
        </p:blipFill>
        <p:spPr>
          <a:xfrm>
            <a:off x="184320" y="2619360"/>
            <a:ext cx="5519520" cy="15667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Noname.jpg"/>
          <p:cNvPicPr/>
          <p:nvPr/>
        </p:nvPicPr>
        <p:blipFill>
          <a:blip r:embed="rId3"/>
          <a:stretch/>
        </p:blipFill>
        <p:spPr>
          <a:xfrm>
            <a:off x="6041880" y="1954080"/>
            <a:ext cx="28702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ELECT EXAMPLE USING ALIA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0" y="1498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lias is an alternative column or table nam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62720" indent="-2124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ELECT </a:t>
            </a:r>
            <a:r>
              <a:rPr b="0" lang="en-US" sz="3600" spc="-1" strike="noStrike">
                <a:solidFill>
                  <a:srgbClr val="990000"/>
                </a:solidFill>
                <a:latin typeface="Franklin Gothic Book"/>
              </a:rPr>
              <a:t>CUST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.CUSTOMERNAME AS </a:t>
            </a:r>
            <a:r>
              <a:rPr b="0" lang="en-US" sz="3600" spc="-1" strike="noStrike">
                <a:solidFill>
                  <a:srgbClr val="990000"/>
                </a:solidFill>
                <a:latin typeface="Franklin Gothic Book"/>
              </a:rPr>
              <a:t>NAME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UST.CUSTOMERADDRESS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62720" indent="-2124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FROM CUSTOMER_V </a:t>
            </a:r>
            <a:r>
              <a:rPr b="0" lang="en-US" sz="3600" spc="-1" strike="noStrike">
                <a:solidFill>
                  <a:srgbClr val="990000"/>
                </a:solidFill>
                <a:latin typeface="Franklin Gothic Book"/>
              </a:rPr>
              <a:t>CUS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62720" indent="-2124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WHERE </a:t>
            </a:r>
            <a:r>
              <a:rPr b="0" lang="en-US" sz="3600" spc="-1" strike="noStrike">
                <a:solidFill>
                  <a:srgbClr val="990000"/>
                </a:solidFill>
                <a:latin typeface="Franklin Gothic Book"/>
              </a:rPr>
              <a:t>NAME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 = ‘Home Furnishings’;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01DB-F180-43E9-9BF6-929B6B28536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424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ELECT EXAMPLE USING A FUNC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88640" y="183204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ing the COUNT </a:t>
            </a:r>
            <a:r>
              <a:rPr b="1" i="1" lang="en-US" sz="3200" spc="-1" strike="noStrike">
                <a:solidFill>
                  <a:srgbClr val="4e3b30"/>
                </a:solidFill>
                <a:latin typeface="Franklin Gothic Book"/>
              </a:rPr>
              <a:t>aggregate function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to find total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ELECT </a:t>
            </a:r>
            <a:r>
              <a:rPr b="0" lang="en-US" sz="2800" spc="-1" strike="noStrike">
                <a:solidFill>
                  <a:srgbClr val="990000"/>
                </a:solidFill>
                <a:latin typeface="Franklin Gothic Book"/>
              </a:rPr>
              <a:t>COUNT(*)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FROM ORDERLINE_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WHERE ORDERID = 1004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Note: With aggregate functions you can’t have single-valued columns included in the SELECT clause, unless they are included in the GROUP BY claus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74B8-326C-46A4-AAE3-07409C5CBCB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76120" y="372600"/>
            <a:ext cx="89409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Franklin Gothic Medium"/>
              </a:rPr>
              <a:t>SELECT EXAMPLE–BOOLEAN OPERATORS</a:t>
            </a:r>
            <a:endParaRPr b="0" lang="en-US" sz="3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04560" y="10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Franklin Gothic Book"/>
              </a:rPr>
              <a:t>AND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, </a:t>
            </a:r>
            <a:r>
              <a:rPr b="0" lang="en-US" sz="2800" spc="-1" strike="noStrike">
                <a:solidFill>
                  <a:srgbClr val="990000"/>
                </a:solidFill>
                <a:latin typeface="Franklin Gothic Book"/>
              </a:rPr>
              <a:t>OR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, and </a:t>
            </a:r>
            <a:r>
              <a:rPr b="0" lang="en-US" sz="2800" spc="-1" strike="noStrike">
                <a:solidFill>
                  <a:srgbClr val="990000"/>
                </a:solidFill>
                <a:latin typeface="Franklin Gothic Book"/>
              </a:rPr>
              <a:t>NOT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Operators for customizing conditions in WHERE claus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83C5-ADF5-4DF8-93B4-A474647F8D3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322200" y="4745160"/>
            <a:ext cx="85741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Note: The </a:t>
            </a:r>
            <a:r>
              <a:rPr b="0" lang="en-US" sz="2300" spc="-1" strike="noStrike">
                <a:solidFill>
                  <a:srgbClr val="c00000"/>
                </a:solidFill>
                <a:latin typeface="Tahoma"/>
                <a:ea typeface="Tahoma"/>
              </a:rPr>
              <a:t>LIKE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  <a:ea typeface="Tahoma"/>
              </a:rPr>
              <a:t>operator allows you to compare strings using wildcards. For example, the % wildcard in ‘%Desk’  indicates that all strings that have any number of characters preceding the word “Desk” will be allowed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1" name="Picture 5" descr="Noname.gif"/>
          <p:cNvPicPr/>
          <p:nvPr/>
        </p:nvPicPr>
        <p:blipFill>
          <a:blip r:embed="rId2"/>
          <a:stretch/>
        </p:blipFill>
        <p:spPr>
          <a:xfrm>
            <a:off x="495360" y="2019240"/>
            <a:ext cx="79293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7884-8C57-4CF3-BB2C-FCD184AA33A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Rectangle 6"/>
          <p:cNvSpPr/>
          <p:nvPr/>
        </p:nvSpPr>
        <p:spPr>
          <a:xfrm>
            <a:off x="630360" y="378000"/>
            <a:ext cx="81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 6-8 Boolean query A without use of  parenth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" name="Picture 4" descr="Noname.jpg"/>
          <p:cNvPicPr/>
          <p:nvPr/>
        </p:nvPicPr>
        <p:blipFill>
          <a:blip r:embed="rId2"/>
          <a:stretch/>
        </p:blipFill>
        <p:spPr>
          <a:xfrm>
            <a:off x="339840" y="1150920"/>
            <a:ext cx="5537160" cy="49021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Noname.jpg"/>
          <p:cNvPicPr/>
          <p:nvPr/>
        </p:nvPicPr>
        <p:blipFill>
          <a:blip r:embed="rId3"/>
          <a:stretch/>
        </p:blipFill>
        <p:spPr>
          <a:xfrm>
            <a:off x="4302000" y="1378080"/>
            <a:ext cx="4842000" cy="1190520"/>
          </a:xfrm>
          <a:prstGeom prst="rect">
            <a:avLst/>
          </a:prstGeom>
          <a:ln w="0">
            <a:noFill/>
          </a:ln>
        </p:spPr>
      </p:pic>
      <p:sp>
        <p:nvSpPr>
          <p:cNvPr id="586" name="TextBox 6"/>
          <p:cNvSpPr/>
          <p:nvPr/>
        </p:nvSpPr>
        <p:spPr>
          <a:xfrm>
            <a:off x="6226200" y="3019320"/>
            <a:ext cx="2496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By default, processing order of Boolean operators is NOT, then AND, then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SELECT EXAMPLE–BOOLEAN OPERATOR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304560" y="1066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Franklin Gothic Book"/>
              </a:rPr>
              <a:t>With parentheses…</a:t>
            </a:r>
            <a:r>
              <a:rPr b="0" lang="en-US" sz="2800" spc="-1" strike="noStrike">
                <a:solidFill>
                  <a:srgbClr val="990000"/>
                </a:solidFill>
                <a:latin typeface="Franklin Gothic Book"/>
              </a:rPr>
              <a:t>these override the normal precedence of Boolean operator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4BC0-B562-49F3-A989-5A4591FDBBE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279360" y="4789440"/>
            <a:ext cx="850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With parentheses, you can override normal precedence rules. In this case parentheses make the OR take place before the A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1" name="Picture 6" descr="Noname.gif"/>
          <p:cNvPicPr/>
          <p:nvPr/>
        </p:nvPicPr>
        <p:blipFill>
          <a:blip r:embed="rId2"/>
          <a:stretch/>
        </p:blipFill>
        <p:spPr>
          <a:xfrm>
            <a:off x="747720" y="2201760"/>
            <a:ext cx="7553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Slide Number Placeholder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5976-B61F-40B0-9055-6E23FFC7CEF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762120" y="449280"/>
            <a:ext cx="80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gure 6-9 Boolean query B  with use of parenthe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4" name="Picture 5" descr="Noname.jpg"/>
          <p:cNvPicPr/>
          <p:nvPr/>
        </p:nvPicPr>
        <p:blipFill>
          <a:blip r:embed="rId2"/>
          <a:stretch/>
        </p:blipFill>
        <p:spPr>
          <a:xfrm>
            <a:off x="701640" y="1135080"/>
            <a:ext cx="6091200" cy="51055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6" descr="Noname.gif"/>
          <p:cNvPicPr/>
          <p:nvPr/>
        </p:nvPicPr>
        <p:blipFill>
          <a:blip r:embed="rId3"/>
          <a:stretch/>
        </p:blipFill>
        <p:spPr>
          <a:xfrm>
            <a:off x="4594320" y="1316160"/>
            <a:ext cx="40273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632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HISTORY OF SQL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42440" y="1303200"/>
            <a:ext cx="819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1970–E. F. Codd develops relational database concept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1974-1979–System R with Sequel (later SQL) created at IBM Research Lab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1979–Oracle markets first relational DB with SQ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1981 – SQL/DS first available RDBMS system on DOS/VS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Others followed: INGRES (1981), IDM (1982), DG/SGL (1984), Sybase (1986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1986–ANSI SQL standard released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1989, 1992, 1999, 2003, 2006, 2008–Major ANSI standard update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urrent–SQL is supported by most major database vendor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8BE8-4F3D-4A4D-94F8-E1AEFFA0B8A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7480" y="3884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SORTING RESULTS WITH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ORDER BY </a:t>
            </a: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AUS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03040" y="129204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rt the results first by STATE, and within a state by the CUSTOMER NAM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D0B1-61D5-48B4-A202-9B6F6232C08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42960" y="4944960"/>
            <a:ext cx="81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The IN operator in this example allows you to include rows whose CustomerState value is either FL, TX, CA, or HI. It is more efficient than separate OR condi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0" name="Picture 5" descr="Noname.gif"/>
          <p:cNvPicPr/>
          <p:nvPr/>
        </p:nvPicPr>
        <p:blipFill>
          <a:blip r:embed="rId2"/>
          <a:stretch/>
        </p:blipFill>
        <p:spPr>
          <a:xfrm>
            <a:off x="430200" y="2462040"/>
            <a:ext cx="8371080" cy="24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06080" y="37764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ATEGORIZING RESULTS USING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GROUP BY</a:t>
            </a: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 CLAUS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0" y="17013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r use with aggregate func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Scalar aggregate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: single value returned from SQL query with aggregate func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3b30"/>
                </a:solidFill>
                <a:latin typeface="Franklin Gothic Book"/>
              </a:rPr>
              <a:t>Vector aggregate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: multiple values returned from SQL query with aggregate function (via GROUP BY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You can use single-value fields with aggregate functions if they are included in the GROUP BY claus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45A4-D333-48ED-B487-3432DB613F2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4" name="Picture 4" descr="Noname.gif"/>
          <p:cNvPicPr/>
          <p:nvPr/>
        </p:nvPicPr>
        <p:blipFill>
          <a:blip r:embed="rId2"/>
          <a:stretch/>
        </p:blipFill>
        <p:spPr>
          <a:xfrm>
            <a:off x="885960" y="3873600"/>
            <a:ext cx="77976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06080" y="4204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QUALIFYING RESULTS BY CATEGORI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USING THE 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HAVING </a:t>
            </a: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LAUS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63240" y="1676160"/>
            <a:ext cx="8359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For use with GROUP BY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Like a WHERE clause, but it operates on groups (categories), not on individual rows. Here, only those groups with total numbers greater than 1 will be included in final result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4CA3-B651-4C3D-81E0-8645B587F80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8" name="Picture 4" descr="Noname.gif"/>
          <p:cNvPicPr/>
          <p:nvPr/>
        </p:nvPicPr>
        <p:blipFill>
          <a:blip r:embed="rId2"/>
          <a:stretch/>
        </p:blipFill>
        <p:spPr>
          <a:xfrm>
            <a:off x="430200" y="2246400"/>
            <a:ext cx="8217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76360" y="31896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USING AND DEFINING VIEW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0" y="1092240"/>
            <a:ext cx="914400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Views provide users controlled access to tab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ase Table–table containing the raw dat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ynamic View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A “virtual table” created dynamically upon request by a user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No data actually stored; instead data from base table made available to user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Based on SQL SELECT statement on base tables or other view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aterialized View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Copy or replication of data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Data actually stored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11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ust be refreshed periodically to match corresponding base table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4F2E-C2B9-4FA8-9658-8380902C704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1272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AMPLE CREATE VIEW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B769-8E37-47FF-A995-67BC58A7AC0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711360" y="3809880"/>
            <a:ext cx="7750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bee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has a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bee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is based on a SELECT state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bee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_OPTION works only for updateable  views and prevents updates that would create rows not included in the vie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5" name="Picture 7" descr="Noname.gif"/>
          <p:cNvPicPr/>
          <p:nvPr/>
        </p:nvPicPr>
        <p:blipFill>
          <a:blip r:embed="rId2"/>
          <a:stretch/>
        </p:blipFill>
        <p:spPr>
          <a:xfrm>
            <a:off x="299880" y="1011240"/>
            <a:ext cx="84711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ADVANTAGES OF VIEW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mplify query comman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ssist with data security (but don't rely on views for security, there are more important security measures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nhance programming productiv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tain most current base table dat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e little storage spa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vide customized view for us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stablish physical data independe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F269-CFB7-456C-935B-AFFACB0BC0E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17400" y="330120"/>
            <a:ext cx="822960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ISADVANTAGES OF VIEW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523880"/>
            <a:ext cx="8229600" cy="31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Use processing time each time view is referenced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May or may not be directly updateabl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5E6E-135F-4746-A88B-82F54B2FB45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122D-1CAB-45C7-BF81-219702C84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3" name="Picture 4" descr="cid:3287383400_2177562"/>
          <p:cNvPicPr/>
          <p:nvPr/>
        </p:nvPicPr>
        <p:blipFill>
          <a:blip r:embed="rId2"/>
          <a:stretch/>
        </p:blipFill>
        <p:spPr>
          <a:xfrm>
            <a:off x="343080" y="971640"/>
            <a:ext cx="8422920" cy="274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4" name="Rectangle 5"/>
          <p:cNvSpPr/>
          <p:nvPr/>
        </p:nvSpPr>
        <p:spPr>
          <a:xfrm>
            <a:off x="738360" y="5327640"/>
            <a:ext cx="7845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72600"/>
            <a:ext cx="7772400" cy="81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PURPOSE OF SQL STANDARD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pecify syntax/semantics for data definition and manipulation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efine data structures and basic operati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nable portability of database definition and application modu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pecify minimal (level 1) and complete (level 2) standard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llow for later growth/enhancement to standard (referential integrity, transaction management,  user-defined functions, extended join operations, national character sets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D3F9-0762-4C7C-9293-B91AA0177DA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BENEFITS OF A STANDARDIZED RELATIONAL LANGUAG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78560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duced training cost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roductivit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pplication portabilit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pplication longevit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duced dependence on a single vendor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ross-system communicatio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6740-F2C0-461D-B994-750D277C2AF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2560" y="3985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QL ENVIRONMENT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5416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Catalog</a:t>
            </a: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A set of schemas that constitute the description of a database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Schema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The structure that contains descriptions of objects created by a user (base tables, views, constraints)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Data Definition Language (DDL)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Commands that define a database, including creating, altering, and dropping tables and establishing constraints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Data Manipulation Language (DML)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Commands that maintain and query a database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Data Control Language (DCL)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Commands that control a database, including administering privileges and committing data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1A71-61A0-437B-A873-99580BF7D91A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5AD5-7A42-4A47-858D-FA76AE7D7F9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838080" y="763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6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ified schematic of a typical SQL environment, as described by the SQL: 2008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D8A5-0185-40FB-B8E6-E632A1E7F90D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441000" y="6262560"/>
            <a:ext cx="117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0" name="Picture 7" descr="Noname.jpg"/>
          <p:cNvPicPr/>
          <p:nvPr/>
        </p:nvPicPr>
        <p:blipFill>
          <a:blip r:embed="rId2"/>
          <a:stretch/>
        </p:blipFill>
        <p:spPr>
          <a:xfrm>
            <a:off x="1481040" y="1549440"/>
            <a:ext cx="621036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7360" y="318960"/>
            <a:ext cx="8076960" cy="81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QL DATA TYPES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1A3B-255A-454F-A57E-97A0C6451D4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Picture 4" descr="Noname.jpg"/>
          <p:cNvPicPr/>
          <p:nvPr/>
        </p:nvPicPr>
        <p:blipFill>
          <a:blip r:embed="rId2"/>
          <a:stretch/>
        </p:blipFill>
        <p:spPr>
          <a:xfrm>
            <a:off x="461880" y="1111320"/>
            <a:ext cx="84200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9T10:00:26Z</dcterms:created>
  <dc:creator>Michel Mitri</dc:creator>
  <dc:description/>
  <cp:keywords/>
  <dc:language>en-US</dc:language>
  <cp:lastModifiedBy>ULOFTKE</cp:lastModifiedBy>
  <cp:lastPrinted>1998-01-19T09:29:56Z</cp:lastPrinted>
  <dcterms:modified xsi:type="dcterms:W3CDTF">2012-07-31T15:33:55Z</dcterms:modified>
  <cp:revision>565</cp:revision>
  <dc:subject/>
  <dc:title>Introduction to SQL</dc:title>
</cp:coreProperties>
</file>